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F708-8DF6-486D-BD87-89F082AA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E915-FDAA-4F1C-81F9-54F5E5CD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E1C-A377-4463-BFDB-74158316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EC3-75D8-4A99-9230-D05AFD25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4DF6-6CBC-4DF2-9010-620449FE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ADD1-9A7A-4D0D-A69A-CE488AC4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B5A6-1809-40F3-BAE5-CB00EBA0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B89-313B-434E-9DA1-C6DF2BB7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1423-FB8A-44ED-87D3-60A8428F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DDD-BE2B-4293-BA7D-7463FCB7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8D2-692C-450F-A724-CE02E8CB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FB43-C78F-4684-A52E-8EF83F44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1D41-BC76-407A-92D7-ACF7B7E106A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f1.fr/jeux/tv/qvgdmpre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2608200" y="2095560"/>
            <a:ext cx="3929040" cy="2666880"/>
            <a:chOff x="2608200" y="2095560"/>
            <a:chExt cx="3929040" cy="2666880"/>
          </a:xfrm>
        </p:grpSpPr>
        <p:sp>
          <p:nvSpPr>
            <p:cNvPr id="42" name="Rectangle 3"/>
            <p:cNvSpPr/>
            <p:nvPr/>
          </p:nvSpPr>
          <p:spPr>
            <a:xfrm>
              <a:off x="2608200" y="2095560"/>
              <a:ext cx="392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grpSp>
          <p:nvGrpSpPr>
            <p:cNvPr id="43" name="Group 7"/>
            <p:cNvGrpSpPr/>
            <p:nvPr/>
          </p:nvGrpSpPr>
          <p:grpSpPr>
            <a:xfrm>
              <a:off x="2608200" y="2095560"/>
              <a:ext cx="2143080" cy="2666880"/>
              <a:chOff x="2608200" y="2095560"/>
              <a:chExt cx="2143080" cy="2666880"/>
            </a:xfrm>
          </p:grpSpPr>
          <p:sp>
            <p:nvSpPr>
              <p:cNvPr id="44" name="Rectangle 4"/>
              <p:cNvSpPr/>
              <p:nvPr/>
            </p:nvSpPr>
            <p:spPr>
              <a:xfrm>
                <a:off x="2608200" y="2095560"/>
                <a:ext cx="2143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2608200" y="2095560"/>
                <a:ext cx="2143080" cy="266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Unicode MS"/>
                  </a:rPr>
                  <a:t>  </a:t>
                </a:r>
                <a:r>
                  <a:rPr b="0" lang="en-GB" sz="14900" spc="-1" strike="noStrike">
                    <a:solidFill>
                      <a:srgbClr val="ffffff"/>
                    </a:solidFill>
                    <a:latin typeface="Arial Unicode MS"/>
                  </a:rPr>
                  <a:t> </a:t>
                </a:r>
                <a:r>
                  <a:rPr b="0" lang="en-GB" sz="2000" spc="-1" strike="noStrike">
                    <a:solidFill>
                      <a:srgbClr val="ffffff"/>
                    </a:solidFill>
                    <a:latin typeface="Arial Unicode MS"/>
                  </a:rPr>
                  <a:t>                                      </a:t>
                </a:r>
                <a:endParaRPr b="0" lang="en-US" sz="20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</p:grpSp>
      <p:pic>
        <p:nvPicPr>
          <p:cNvPr id="46" name="Picture 6" descr="http://up.tf1.fr/mmdia/100/105/7/89907.JPG"/>
          <p:cNvPicPr/>
          <p:nvPr/>
        </p:nvPicPr>
        <p:blipFill>
          <a:blip r:embed="rId1"/>
          <a:stretch/>
        </p:blipFill>
        <p:spPr>
          <a:xfrm>
            <a:off x="2514600" y="2362320"/>
            <a:ext cx="3684600" cy="3176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2438280" y="7621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¡Necesito un volontario!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48" name="final_music.mp3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5638680" y="3429000"/>
            <a:ext cx="259092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5638680" y="4419720"/>
            <a:ext cx="259092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352680" y="35053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caball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5867280" y="35053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tor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3352680" y="4495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lechuz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5638680" y="4495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 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bich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264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265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6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267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269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0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271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2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273" name="Rectangle 2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4" name="Rectangle 2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275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276" name="ask_full_length.mp3" descr=""/>
          <p:cNvPicPr/>
          <p:nvPr/>
        </p:nvPicPr>
        <p:blipFill>
          <a:blip r:embed="rId4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77" name="ask_audience.mp3" descr=""/>
          <p:cNvPicPr/>
          <p:nvPr/>
        </p:nvPicPr>
        <p:blipFill>
          <a:blip r:embed="rId5"/>
          <a:stretch/>
        </p:blipFill>
        <p:spPr>
          <a:xfrm>
            <a:off x="86104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8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28"/>
          <p:cNvSpPr/>
          <p:nvPr/>
        </p:nvSpPr>
        <p:spPr>
          <a:xfrm>
            <a:off x="3962520" y="129528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bull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5638680" y="3429000"/>
            <a:ext cx="259092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5638680" y="4419720"/>
            <a:ext cx="259092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2590920" y="838080"/>
            <a:ext cx="5105160" cy="19814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350532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gat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095880" y="3505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ájar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3276720" y="4495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caball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6095880" y="44956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cabr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291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292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3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294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296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7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298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2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300" name="Rectangle 2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01" name="Rectangle 2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302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303" name="ask_audience.mp3" descr=""/>
          <p:cNvPicPr/>
          <p:nvPr/>
        </p:nvPicPr>
        <p:blipFill>
          <a:blip r:embed="rId4"/>
          <a:stretch/>
        </p:blipFill>
        <p:spPr>
          <a:xfrm>
            <a:off x="86104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4" name="ask_full_length.mp3" descr=""/>
          <p:cNvPicPr/>
          <p:nvPr/>
        </p:nvPicPr>
        <p:blipFill>
          <a:blip r:embed="rId5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5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28"/>
          <p:cNvSpPr/>
          <p:nvPr/>
        </p:nvSpPr>
        <p:spPr>
          <a:xfrm>
            <a:off x="3962520" y="129528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goat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9" name="AutoShape 4"/>
          <p:cNvSpPr/>
          <p:nvPr/>
        </p:nvSpPr>
        <p:spPr>
          <a:xfrm>
            <a:off x="5638680" y="3429000"/>
            <a:ext cx="259092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5638680" y="4419720"/>
            <a:ext cx="259092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2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3352680" y="3505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calculador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6019920" y="3505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el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3505320" y="4495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caball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6095880" y="44956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ojo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318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319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20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321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322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323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24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325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2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327" name="Rectangle 2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28" name="Rectangle 2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329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330" name="ask_full_length.mp3" descr=""/>
          <p:cNvPicPr/>
          <p:nvPr/>
        </p:nvPicPr>
        <p:blipFill>
          <a:blip r:embed="rId4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31" name="ask_audience.mp3" descr=""/>
          <p:cNvPicPr/>
          <p:nvPr/>
        </p:nvPicPr>
        <p:blipFill>
          <a:blip r:embed="rId5"/>
          <a:stretch/>
        </p:blipFill>
        <p:spPr>
          <a:xfrm>
            <a:off x="86104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2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8"/>
          <p:cNvSpPr/>
          <p:nvPr/>
        </p:nvSpPr>
        <p:spPr>
          <a:xfrm>
            <a:off x="3571920" y="1295280"/>
            <a:ext cx="357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horse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5" name="AutoShape 3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5638680" y="3429000"/>
            <a:ext cx="259092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8" name="AutoShape 6"/>
          <p:cNvSpPr/>
          <p:nvPr/>
        </p:nvSpPr>
        <p:spPr>
          <a:xfrm>
            <a:off x="5638680" y="4419720"/>
            <a:ext cx="259092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9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3352680" y="35053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os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6019920" y="3505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bich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3048120" y="44956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ájar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5867280" y="44956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caball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345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346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47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348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349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350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1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352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353" name="Group 2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354" name="Rectangle 2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5" name="Rectangle 2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356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357" name="ask_full_length.mp3" descr=""/>
          <p:cNvPicPr/>
          <p:nvPr/>
        </p:nvPicPr>
        <p:blipFill>
          <a:blip r:embed="rId4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58" name="ask_audience.mp3" descr=""/>
          <p:cNvPicPr/>
          <p:nvPr/>
        </p:nvPicPr>
        <p:blipFill>
          <a:blip r:embed="rId5"/>
          <a:stretch/>
        </p:blipFill>
        <p:spPr>
          <a:xfrm>
            <a:off x="86104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9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28"/>
          <p:cNvSpPr/>
          <p:nvPr/>
        </p:nvSpPr>
        <p:spPr>
          <a:xfrm>
            <a:off x="3962520" y="129528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creepy crawly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2" name="AutoShape 3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3" name="AutoShape 4"/>
          <p:cNvSpPr/>
          <p:nvPr/>
        </p:nvSpPr>
        <p:spPr>
          <a:xfrm>
            <a:off x="56437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4" name="AutoShape 5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5" name="AutoShape 6"/>
          <p:cNvSpPr/>
          <p:nvPr/>
        </p:nvSpPr>
        <p:spPr>
          <a:xfrm>
            <a:off x="5638680" y="4419720"/>
            <a:ext cx="259092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6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3352680" y="3505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estudiar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6019920" y="3505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intar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3505320" y="4495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observar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6095880" y="44956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escribir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372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373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4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375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376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377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8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grpSp>
        <p:nvGrpSpPr>
          <p:cNvPr id="379" name="Group 2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380" name="Rectangle 2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81" name="Rectangle 2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382" name="Picture 25" descr="http://mmdia.tf1.fr/mmdia/100/105/16/124316.GIF"/>
          <p:cNvPicPr/>
          <p:nvPr/>
        </p:nvPicPr>
        <p:blipFill>
          <a:blip r:embed="rId2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383" name="ask_audience.mp3" descr=""/>
          <p:cNvPicPr/>
          <p:nvPr/>
        </p:nvPicPr>
        <p:blipFill>
          <a:blip r:embed="rId3"/>
          <a:stretch/>
        </p:blipFill>
        <p:spPr>
          <a:xfrm>
            <a:off x="86104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84" name="ask_full_length.mp3" descr=""/>
          <p:cNvPicPr/>
          <p:nvPr/>
        </p:nvPicPr>
        <p:blipFill>
          <a:blip r:embed="rId4"/>
          <a:stretch/>
        </p:blipFill>
        <p:spPr>
          <a:xfrm>
            <a:off x="4572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8" descr="http://mmdia.tf1.fr/mmdia/100/105/14/124314.GIF"/>
          <p:cNvPicPr/>
          <p:nvPr/>
        </p:nvPicPr>
        <p:blipFill>
          <a:blip r:embed="rId5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386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28"/>
          <p:cNvSpPr/>
          <p:nvPr/>
        </p:nvSpPr>
        <p:spPr>
          <a:xfrm>
            <a:off x="3962520" y="129528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to paint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9" name="AutoShape 3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0" name="AutoShape 4"/>
          <p:cNvSpPr/>
          <p:nvPr/>
        </p:nvSpPr>
        <p:spPr>
          <a:xfrm>
            <a:off x="56437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1" name="AutoShape 5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5638680" y="4419720"/>
            <a:ext cx="2590920" cy="866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bonit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3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3571920" y="3429000"/>
            <a:ext cx="22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retrat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6019920" y="3505320"/>
            <a:ext cx="28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divertid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3357720" y="4495680"/>
            <a:ext cx="27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roj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6095880" y="44956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399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400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01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402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403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404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05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406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2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408" name="Rectangle 2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09" name="Rectangle 2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410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411" name="ask_audience.mp3" descr=""/>
          <p:cNvPicPr/>
          <p:nvPr/>
        </p:nvPicPr>
        <p:blipFill>
          <a:blip r:embed="rId4"/>
          <a:stretch/>
        </p:blipFill>
        <p:spPr>
          <a:xfrm>
            <a:off x="861048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2" name="ask_full_length.mp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3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8"/>
          <p:cNvSpPr/>
          <p:nvPr/>
        </p:nvSpPr>
        <p:spPr>
          <a:xfrm>
            <a:off x="3962520" y="129528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portrait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" fill="hold"/>
                                        <p:tgtEl>
                                          <p:spTgt spid="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6" name="AutoShape 3"/>
          <p:cNvSpPr/>
          <p:nvPr/>
        </p:nvSpPr>
        <p:spPr>
          <a:xfrm>
            <a:off x="2643120" y="3286080"/>
            <a:ext cx="2971800" cy="68580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7" name="AutoShape 4"/>
          <p:cNvSpPr/>
          <p:nvPr/>
        </p:nvSpPr>
        <p:spPr>
          <a:xfrm>
            <a:off x="5638680" y="3276720"/>
            <a:ext cx="2590920" cy="68580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8" name="AutoShape 5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9" name="AutoShape 6"/>
          <p:cNvSpPr/>
          <p:nvPr/>
        </p:nvSpPr>
        <p:spPr>
          <a:xfrm>
            <a:off x="5638680" y="4419720"/>
            <a:ext cx="259092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0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2666880" y="33526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equeñ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6019920" y="335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ez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327672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 lor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4" name="Text Box 13"/>
          <p:cNvSpPr/>
          <p:nvPr/>
        </p:nvSpPr>
        <p:spPr>
          <a:xfrm>
            <a:off x="5867280" y="44956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ájar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425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426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428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429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430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432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433" name="Group 2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434" name="Rectangle 2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436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437" name="ask_audience.mp3" descr=""/>
          <p:cNvPicPr/>
          <p:nvPr/>
        </p:nvPicPr>
        <p:blipFill>
          <a:blip r:embed="rId4"/>
          <a:stretch/>
        </p:blipFill>
        <p:spPr>
          <a:xfrm>
            <a:off x="86104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8" name="ask_full_length.mp3" descr=""/>
          <p:cNvPicPr/>
          <p:nvPr/>
        </p:nvPicPr>
        <p:blipFill>
          <a:blip r:embed="rId5"/>
          <a:stretch/>
        </p:blipFill>
        <p:spPr>
          <a:xfrm>
            <a:off x="4572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39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28"/>
          <p:cNvSpPr/>
          <p:nvPr/>
        </p:nvSpPr>
        <p:spPr>
          <a:xfrm>
            <a:off x="3962520" y="129528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bird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2608200" y="2095560"/>
            <a:ext cx="3929040" cy="2666880"/>
            <a:chOff x="2608200" y="2095560"/>
            <a:chExt cx="3929040" cy="2666880"/>
          </a:xfrm>
        </p:grpSpPr>
        <p:sp>
          <p:nvSpPr>
            <p:cNvPr id="442" name="Rectangle 3"/>
            <p:cNvSpPr/>
            <p:nvPr/>
          </p:nvSpPr>
          <p:spPr>
            <a:xfrm>
              <a:off x="2608200" y="2095560"/>
              <a:ext cx="392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grpSp>
          <p:nvGrpSpPr>
            <p:cNvPr id="443" name="Group 4"/>
            <p:cNvGrpSpPr/>
            <p:nvPr/>
          </p:nvGrpSpPr>
          <p:grpSpPr>
            <a:xfrm>
              <a:off x="2608200" y="2095560"/>
              <a:ext cx="2143080" cy="2666880"/>
              <a:chOff x="2608200" y="2095560"/>
              <a:chExt cx="2143080" cy="2666880"/>
            </a:xfrm>
          </p:grpSpPr>
          <p:sp>
            <p:nvSpPr>
              <p:cNvPr id="444" name="Rectangle 5"/>
              <p:cNvSpPr/>
              <p:nvPr/>
            </p:nvSpPr>
            <p:spPr>
              <a:xfrm>
                <a:off x="2608200" y="2095560"/>
                <a:ext cx="2143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445" name="Rectangle 6"/>
              <p:cNvSpPr/>
              <p:nvPr/>
            </p:nvSpPr>
            <p:spPr>
              <a:xfrm>
                <a:off x="2608200" y="2095560"/>
                <a:ext cx="2143080" cy="266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Unicode MS"/>
                  </a:rPr>
                  <a:t>  </a:t>
                </a:r>
                <a:r>
                  <a:rPr b="0" lang="en-GB" sz="14900" spc="-1" strike="noStrike">
                    <a:solidFill>
                      <a:srgbClr val="ffffff"/>
                    </a:solidFill>
                    <a:latin typeface="Arial Unicode MS"/>
                  </a:rPr>
                  <a:t> </a:t>
                </a:r>
                <a:r>
                  <a:rPr b="0" lang="en-GB" sz="2000" spc="-1" strike="noStrike">
                    <a:solidFill>
                      <a:srgbClr val="ffffff"/>
                    </a:solidFill>
                    <a:latin typeface="Arial Unicode MS"/>
                  </a:rPr>
                  <a:t>                                      </a:t>
                </a:r>
                <a:endParaRPr b="0" lang="en-US" sz="20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</p:grpSp>
      <p:pic>
        <p:nvPicPr>
          <p:cNvPr id="446" name="Picture 7" descr="http://up.tf1.fr/mmdia/100/105/7/89907.JPG"/>
          <p:cNvPicPr/>
          <p:nvPr/>
        </p:nvPicPr>
        <p:blipFill>
          <a:blip r:embed="rId1"/>
          <a:stretch/>
        </p:blipFill>
        <p:spPr>
          <a:xfrm>
            <a:off x="2514600" y="2362320"/>
            <a:ext cx="3684600" cy="317664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8"/>
          <p:cNvSpPr/>
          <p:nvPr/>
        </p:nvSpPr>
        <p:spPr>
          <a:xfrm>
            <a:off x="2438280" y="7621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¡Has ganado!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448" name="final_music.mp3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1" fill="hold"/>
                                        <p:tgtEl>
                                          <p:spTgt spid="4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3619440" y="2370240"/>
            <a:ext cx="1357200" cy="2117520"/>
            <a:chOff x="3619440" y="2370240"/>
            <a:chExt cx="1357200" cy="2117520"/>
          </a:xfrm>
        </p:grpSpPr>
        <p:sp>
          <p:nvSpPr>
            <p:cNvPr id="50" name="Rectangle 3"/>
            <p:cNvSpPr/>
            <p:nvPr/>
          </p:nvSpPr>
          <p:spPr>
            <a:xfrm>
              <a:off x="3619440" y="2370240"/>
              <a:ext cx="1357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" name="Rectangle 4"/>
            <p:cNvSpPr/>
            <p:nvPr/>
          </p:nvSpPr>
          <p:spPr>
            <a:xfrm>
              <a:off x="3619440" y="2370240"/>
              <a:ext cx="1357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109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grpSp>
        <p:nvGrpSpPr>
          <p:cNvPr id="52" name="Group 6"/>
          <p:cNvGrpSpPr/>
          <p:nvPr/>
        </p:nvGrpSpPr>
        <p:grpSpPr>
          <a:xfrm>
            <a:off x="4191120" y="3733920"/>
            <a:ext cx="3929040" cy="2879640"/>
            <a:chOff x="4191120" y="3733920"/>
            <a:chExt cx="3929040" cy="2879640"/>
          </a:xfrm>
        </p:grpSpPr>
        <p:sp>
          <p:nvSpPr>
            <p:cNvPr id="53" name="Rectangle 7"/>
            <p:cNvSpPr/>
            <p:nvPr/>
          </p:nvSpPr>
          <p:spPr>
            <a:xfrm>
              <a:off x="4191120" y="3733920"/>
              <a:ext cx="392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grpSp>
          <p:nvGrpSpPr>
            <p:cNvPr id="54" name="Group 8"/>
            <p:cNvGrpSpPr/>
            <p:nvPr/>
          </p:nvGrpSpPr>
          <p:grpSpPr>
            <a:xfrm>
              <a:off x="4191120" y="3733920"/>
              <a:ext cx="2143080" cy="2879640"/>
              <a:chOff x="4191120" y="3733920"/>
              <a:chExt cx="2143080" cy="2879640"/>
            </a:xfrm>
          </p:grpSpPr>
          <p:sp>
            <p:nvSpPr>
              <p:cNvPr id="55" name="Rectangle 9"/>
              <p:cNvSpPr/>
              <p:nvPr/>
            </p:nvSpPr>
            <p:spPr>
              <a:xfrm>
                <a:off x="4191120" y="3733920"/>
                <a:ext cx="2143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56" name="Rectangle 10"/>
              <p:cNvSpPr/>
              <p:nvPr/>
            </p:nvSpPr>
            <p:spPr>
              <a:xfrm>
                <a:off x="4191120" y="3733920"/>
                <a:ext cx="2143080" cy="28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imes New Roman"/>
                  </a:rPr>
                  <a:t>                           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</p:grpSp>
      <p:grpSp>
        <p:nvGrpSpPr>
          <p:cNvPr id="57" name="Group 12"/>
          <p:cNvGrpSpPr/>
          <p:nvPr/>
        </p:nvGrpSpPr>
        <p:grpSpPr>
          <a:xfrm>
            <a:off x="3619440" y="3200400"/>
            <a:ext cx="1357200" cy="457200"/>
            <a:chOff x="3619440" y="3200400"/>
            <a:chExt cx="1357200" cy="457200"/>
          </a:xfrm>
        </p:grpSpPr>
        <p:sp>
          <p:nvSpPr>
            <p:cNvPr id="58" name="Rectangle 13"/>
            <p:cNvSpPr/>
            <p:nvPr/>
          </p:nvSpPr>
          <p:spPr>
            <a:xfrm>
              <a:off x="3619440" y="3200400"/>
              <a:ext cx="1357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" name="Rectangle 14"/>
            <p:cNvSpPr/>
            <p:nvPr/>
          </p:nvSpPr>
          <p:spPr>
            <a:xfrm>
              <a:off x="3619440" y="3200400"/>
              <a:ext cx="13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21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60" name="Rectangle 17"/>
          <p:cNvSpPr/>
          <p:nvPr/>
        </p:nvSpPr>
        <p:spPr>
          <a:xfrm>
            <a:off x="2286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61" name="Group 23"/>
          <p:cNvGrpSpPr/>
          <p:nvPr/>
        </p:nvGrpSpPr>
        <p:grpSpPr>
          <a:xfrm>
            <a:off x="1760400" y="2552760"/>
            <a:ext cx="5537160" cy="1752480"/>
            <a:chOff x="1760400" y="2552760"/>
            <a:chExt cx="5537160" cy="1752480"/>
          </a:xfrm>
        </p:grpSpPr>
        <p:sp>
          <p:nvSpPr>
            <p:cNvPr id="62" name="Rectangle 20"/>
            <p:cNvSpPr/>
            <p:nvPr/>
          </p:nvSpPr>
          <p:spPr>
            <a:xfrm>
              <a:off x="1760400" y="25527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3" name="Rectangle 21"/>
            <p:cNvSpPr/>
            <p:nvPr/>
          </p:nvSpPr>
          <p:spPr>
            <a:xfrm>
              <a:off x="1760400" y="2552760"/>
              <a:ext cx="553716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8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64" name="Picture 22" descr="http://www.rctv.net/ImgContenido/ImagenesProgramas/home_millonario.jpg"/>
          <p:cNvPicPr/>
          <p:nvPr/>
        </p:nvPicPr>
        <p:blipFill>
          <a:blip r:embed="rId2"/>
          <a:stretch/>
        </p:blipFill>
        <p:spPr>
          <a:xfrm>
            <a:off x="838080" y="1905120"/>
            <a:ext cx="776628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5638680" y="3429000"/>
            <a:ext cx="259092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8" name="AutoShape 11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5638680" y="4419720"/>
            <a:ext cx="259092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AutoShape 16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3886200" y="121932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Rounded MT Bold"/>
              </a:rPr>
              <a:t>Me llamo _______ Picasso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350532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epe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6095880" y="35053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edr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3505320" y="4495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abl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6095880" y="44956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ilar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76" name="Group 3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77" name="Rectangle 2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8" name="Rectangle 3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79" name="Picture 31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36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81" name="Rectangle 3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2" name="Rectangle 3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83" name="Picture 35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40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85" name="Rectangle 37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6" name="Rectangle 38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87" name="Picture 39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88" name="ask_full_length.mp3" descr=""/>
          <p:cNvPicPr/>
          <p:nvPr/>
        </p:nvPicPr>
        <p:blipFill>
          <a:blip r:embed="rId4"/>
          <a:stretch/>
        </p:blipFill>
        <p:spPr>
          <a:xfrm>
            <a:off x="4572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ask_audience.mp3" descr=""/>
          <p:cNvPicPr/>
          <p:nvPr/>
        </p:nvPicPr>
        <p:blipFill>
          <a:blip r:embed="rId5"/>
          <a:stretch/>
        </p:blipFill>
        <p:spPr>
          <a:xfrm>
            <a:off x="861048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5638680" y="3429000"/>
            <a:ext cx="259092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5638680" y="4419720"/>
            <a:ext cx="259092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365760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viej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095880" y="35053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 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camell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3505320" y="4495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caball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6095880" y="44956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cocodril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102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103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4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05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107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8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09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2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111" name="Rectangle 2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2" name="Rectangle 2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13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114" name="ask_full_length.mp3" descr=""/>
          <p:cNvPicPr/>
          <p:nvPr/>
        </p:nvPicPr>
        <p:blipFill>
          <a:blip r:embed="rId4"/>
          <a:stretch/>
        </p:blipFill>
        <p:spPr>
          <a:xfrm>
            <a:off x="4572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ask_audience.mp3" descr=""/>
          <p:cNvPicPr/>
          <p:nvPr/>
        </p:nvPicPr>
        <p:blipFill>
          <a:blip r:embed="rId5"/>
          <a:stretch/>
        </p:blipFill>
        <p:spPr>
          <a:xfrm>
            <a:off x="8610480" y="266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8"/>
          <p:cNvSpPr/>
          <p:nvPr/>
        </p:nvSpPr>
        <p:spPr>
          <a:xfrm>
            <a:off x="3962520" y="129528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camel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17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5715000" y="3429000"/>
            <a:ext cx="259092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5638680" y="4419720"/>
            <a:ext cx="259092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276720" y="35053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 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Málaga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943600" y="35053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Madrid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20040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Murci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6095880" y="44956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Manchester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129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130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1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32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134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5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36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22"/>
          <p:cNvGrpSpPr/>
          <p:nvPr/>
        </p:nvGrpSpPr>
        <p:grpSpPr>
          <a:xfrm>
            <a:off x="2536920" y="3040200"/>
            <a:ext cx="511200" cy="160200"/>
            <a:chOff x="2536920" y="3040200"/>
            <a:chExt cx="511200" cy="160200"/>
          </a:xfrm>
        </p:grpSpPr>
        <p:sp>
          <p:nvSpPr>
            <p:cNvPr id="138" name="Rectangle 23"/>
            <p:cNvSpPr/>
            <p:nvPr/>
          </p:nvSpPr>
          <p:spPr>
            <a:xfrm>
              <a:off x="2536920" y="3040200"/>
              <a:ext cx="511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9" name="Rectangle 24"/>
            <p:cNvSpPr/>
            <p:nvPr/>
          </p:nvSpPr>
          <p:spPr>
            <a:xfrm>
              <a:off x="2536920" y="3040200"/>
              <a:ext cx="51120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40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141" name="ask_audience.mp3" descr=""/>
          <p:cNvPicPr/>
          <p:nvPr/>
        </p:nvPicPr>
        <p:blipFill>
          <a:blip r:embed="rId4"/>
          <a:stretch/>
        </p:blipFill>
        <p:spPr>
          <a:xfrm>
            <a:off x="86104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ask_full_length.mp3" descr=""/>
          <p:cNvPicPr/>
          <p:nvPr/>
        </p:nvPicPr>
        <p:blipFill>
          <a:blip r:embed="rId5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8"/>
          <p:cNvSpPr/>
          <p:nvPr/>
        </p:nvSpPr>
        <p:spPr>
          <a:xfrm>
            <a:off x="3886200" y="121932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Dónde nació Picasso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44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2743200" y="3429000"/>
            <a:ext cx="289548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638680" y="3429000"/>
            <a:ext cx="304812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2666880" y="4419720"/>
            <a:ext cx="297180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5638680" y="4419720"/>
            <a:ext cx="312444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048120" y="35053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ez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5867280" y="35053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at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048120" y="44956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iern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5943600" y="4495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 perr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156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157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58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59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161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2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63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2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165" name="Rectangle 2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6" name="Rectangle 2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67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168" name="ask_audience.mp3" descr=""/>
          <p:cNvPicPr/>
          <p:nvPr/>
        </p:nvPicPr>
        <p:blipFill>
          <a:blip r:embed="rId4"/>
          <a:stretch/>
        </p:blipFill>
        <p:spPr>
          <a:xfrm>
            <a:off x="853452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9" name="ask_full_length.mp3" descr=""/>
          <p:cNvPicPr/>
          <p:nvPr/>
        </p:nvPicPr>
        <p:blipFill>
          <a:blip r:embed="rId5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0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28"/>
          <p:cNvSpPr/>
          <p:nvPr/>
        </p:nvSpPr>
        <p:spPr>
          <a:xfrm>
            <a:off x="3962520" y="129528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dog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5638680" y="3429000"/>
            <a:ext cx="259092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3048120" y="4419720"/>
            <a:ext cx="2590560" cy="60948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5638680" y="4419720"/>
            <a:ext cx="2590920" cy="60948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276720" y="3505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lechug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5943600" y="35053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lechuz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27672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lech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5943600" y="4495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leopard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184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85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86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188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89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90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2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192" name="Rectangle 2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93" name="Rectangle 2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94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195" name="ask_audience.mp3" descr=""/>
          <p:cNvPicPr/>
          <p:nvPr/>
        </p:nvPicPr>
        <p:blipFill>
          <a:blip r:embed="rId4"/>
          <a:stretch/>
        </p:blipFill>
        <p:spPr>
          <a:xfrm>
            <a:off x="853452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6" name="ask_full_length.mp3" descr=""/>
          <p:cNvPicPr/>
          <p:nvPr/>
        </p:nvPicPr>
        <p:blipFill>
          <a:blip r:embed="rId5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7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8"/>
          <p:cNvSpPr/>
          <p:nvPr/>
        </p:nvSpPr>
        <p:spPr>
          <a:xfrm>
            <a:off x="3857760" y="128592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owl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5638680" y="3429000"/>
            <a:ext cx="259092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5638680" y="4419720"/>
            <a:ext cx="259092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50532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alom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6095880" y="35053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recios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505320" y="4495680"/>
            <a:ext cx="15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US" sz="2000" spc="-1" strike="noStrike">
                <a:solidFill>
                  <a:srgbClr val="ffffff"/>
                </a:solidFill>
                <a:latin typeface="Arial Unicode MS"/>
              </a:rPr>
              <a:t>pequeñ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6095880" y="44956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inguin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210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211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2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213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215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6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217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22"/>
          <p:cNvGrpSpPr/>
          <p:nvPr/>
        </p:nvGrpSpPr>
        <p:grpSpPr>
          <a:xfrm>
            <a:off x="8381880" y="3352680"/>
            <a:ext cx="762120" cy="76320"/>
            <a:chOff x="8381880" y="3352680"/>
            <a:chExt cx="762120" cy="76320"/>
          </a:xfrm>
        </p:grpSpPr>
        <p:sp>
          <p:nvSpPr>
            <p:cNvPr id="219" name="Rectangle 23"/>
            <p:cNvSpPr/>
            <p:nvPr/>
          </p:nvSpPr>
          <p:spPr>
            <a:xfrm>
              <a:off x="8381880" y="335268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20" name="Rectangle 24"/>
            <p:cNvSpPr/>
            <p:nvPr/>
          </p:nvSpPr>
          <p:spPr>
            <a:xfrm>
              <a:off x="8381880" y="3352680"/>
              <a:ext cx="762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221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222" name="ask_audience.mp3" descr=""/>
          <p:cNvPicPr/>
          <p:nvPr/>
        </p:nvPicPr>
        <p:blipFill>
          <a:blip r:embed="rId4"/>
          <a:stretch/>
        </p:blipFill>
        <p:spPr>
          <a:xfrm>
            <a:off x="861048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3" name="ask_full_length.mp3" descr=""/>
          <p:cNvPicPr/>
          <p:nvPr/>
        </p:nvPicPr>
        <p:blipFill>
          <a:blip r:embed="rId5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4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28"/>
          <p:cNvSpPr/>
          <p:nvPr/>
        </p:nvSpPr>
        <p:spPr>
          <a:xfrm>
            <a:off x="3962520" y="129528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dove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5638680" y="3429000"/>
            <a:ext cx="259092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5638680" y="4419720"/>
            <a:ext cx="259092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350532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gallin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095880" y="3505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grand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505320" y="4495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gat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6095880" y="44956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vac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237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238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39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240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242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43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244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2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246" name="Rectangle 2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47" name="Rectangle 2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248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249" name="ask_full_length.mp3" descr=""/>
          <p:cNvPicPr/>
          <p:nvPr/>
        </p:nvPicPr>
        <p:blipFill>
          <a:blip r:embed="rId4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ask_audience.mp3" descr=""/>
          <p:cNvPicPr/>
          <p:nvPr/>
        </p:nvPicPr>
        <p:blipFill>
          <a:blip r:embed="rId5"/>
          <a:stretch/>
        </p:blipFill>
        <p:spPr>
          <a:xfrm>
            <a:off x="86104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1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28"/>
          <p:cNvSpPr/>
          <p:nvPr/>
        </p:nvSpPr>
        <p:spPr>
          <a:xfrm>
            <a:off x="396252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cat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8:41:48Z</dcterms:created>
  <dc:creator>Wendy Adeniji</dc:creator>
  <dc:description/>
  <dc:language>en-US</dc:language>
  <cp:lastModifiedBy>Teacher</cp:lastModifiedBy>
  <dcterms:modified xsi:type="dcterms:W3CDTF">2010-01-25T22:37:41Z</dcterms:modified>
  <cp:revision>31</cp:revision>
  <dc:subject/>
  <dc:title>PowerPoint Presentation</dc:title>
</cp:coreProperties>
</file>